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7EA-A208-49B4-929D-05370948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DBB-567A-4E09-A0CC-3CD74DF0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A14-9408-40EB-BC11-3FC37774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BCF-879F-4059-AEF9-0D2CB657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B1C-5BCF-4D66-AB58-3338A7F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9F0-1746-4EB2-BAB3-B4337413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547-27D0-4B28-B74D-E982268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0E4-FD1B-4F56-A98B-01044325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88B-A5AF-4703-A8CF-0328559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D54-BFED-4C82-A4E2-1C527C3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D5F-9F8B-4E8F-A663-C1C9354E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F75-B950-4828-877D-08A1835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3081-8E62-46DA-BF1D-4B2B5F06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2133720"/>
          <a:ext cx="128916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128916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410080" y="2286000"/>
          <a:ext cx="139716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86000"/>
                    <a:ext cx="139716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6320" y="6659640"/>
          <a:ext cx="1288800" cy="23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6659640"/>
                    <a:ext cx="1288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384880" y="6750000"/>
          <a:ext cx="1396800" cy="226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4880" y="6750000"/>
                    <a:ext cx="139680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46:24Z</dcterms:created>
  <dc:creator>Dina Winterton</dc:creator>
  <dc:description/>
  <dc:language>en-US</dc:language>
  <cp:lastModifiedBy>Dina Winterton</cp:lastModifiedBy>
  <dcterms:modified xsi:type="dcterms:W3CDTF">2009-04-13T18:17:47Z</dcterms:modified>
  <cp:revision>4</cp:revision>
  <dc:subject/>
  <dc:title>Slide 1</dc:title>
</cp:coreProperties>
</file>